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358593"/>
        <c:axId val="72133259"/>
      </c:barChart>
      <c:catAx>
        <c:axId val="135859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133259"/>
        <c:crosses val="autoZero"/>
        <c:auto val="1"/>
        <c:lblAlgn val="ctr"/>
        <c:lblOffset val="100"/>
        <c:noMultiLvlLbl val="0"/>
      </c:catAx>
      <c:valAx>
        <c:axId val="7213325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5859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3C790-330C-432D-AC74-FFF4C3425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C053F-70AE-4EF2-A416-434485524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7B69F-3271-4804-82C4-886EBC935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005A8-F006-4576-B27C-92A9DA65F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D2985-2383-43B0-8F59-682CF3F09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1BA2D-D422-4272-BA04-8F038BB06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9DBF0-E738-49D7-944C-9E0BB481F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7EA9D-ED43-40D2-8731-EF5D0F8BF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EE1B5-8C09-4606-B87C-7460A4784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84A66-28C3-44A0-8059-F3AA0E150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49FF5-B719-47E4-BD74-E07DCEA42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83849-1BDA-48A8-99A8-757DDAE0C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C5608B-2491-4471-8596-D4DDA0D6604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