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88092"/>
        <c:axId val="60478431"/>
      </c:barChart>
      <c:catAx>
        <c:axId val="48088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78431"/>
        <c:crosses val="autoZero"/>
        <c:auto val="1"/>
        <c:lblAlgn val="ctr"/>
        <c:lblOffset val="100"/>
        <c:noMultiLvlLbl val="0"/>
      </c:catAx>
      <c:valAx>
        <c:axId val="60478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88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035-B770-4423-9A28-C202267C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700-A60F-451A-BB97-ED3E67D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9E2-E2BD-41E6-A1CB-6FFD95BF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08F-E5FB-4223-86F1-958D6C62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FD8-A3FC-487F-9DB1-18883E19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C3E-8FEB-420B-9F57-EE0B8C65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BB5-BCE4-463F-A6B1-82E7E65B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B52-1947-467D-BB96-5A10F699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E67-40E7-445F-80C4-BDA3A76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6E5-EBA8-46D7-8024-B8D76BF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F4D-A076-412C-A34A-8A3BFE9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C9B-DF8B-45B3-AD0F-C769662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968A6-2D2D-447A-94BD-FF22CBE5BD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