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75289"/>
        <c:axId val="54726499"/>
      </c:barChart>
      <c:catAx>
        <c:axId val="24375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26499"/>
        <c:crosses val="autoZero"/>
        <c:auto val="1"/>
        <c:lblAlgn val="ctr"/>
        <c:lblOffset val="100"/>
        <c:noMultiLvlLbl val="0"/>
      </c:catAx>
      <c:valAx>
        <c:axId val="54726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5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5E3-B6F8-4D69-9463-4F722816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851-0406-49C8-8AE4-FF68BA81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BBB-7202-448D-90AB-C8EECDB0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A58-1D5D-44CF-A7A6-DBC1243A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E65-F7CE-487E-B816-EF6526A1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6A8-8BED-45C4-AC99-97E97CFE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F76-3385-4EC1-917B-E9145850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4F8-D96B-417F-9789-1846EAD8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1AC-36C6-4E15-9FD0-44EAFE38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038-A9FB-41CB-8EDE-78D83E04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161-9887-4AB2-A299-6E511205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34E-4B7D-40AC-A4F5-5BFDBC35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7277D-B17C-4EB2-BD46-8AEBA08FAE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