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581338"/>
        <c:axId val="52603293"/>
      </c:barChart>
      <c:catAx>
        <c:axId val="80581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03293"/>
        <c:crosses val="autoZero"/>
        <c:auto val="1"/>
        <c:lblAlgn val="ctr"/>
        <c:lblOffset val="100"/>
        <c:noMultiLvlLbl val="0"/>
      </c:catAx>
      <c:valAx>
        <c:axId val="526032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81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517E-6E79-43ED-914A-9892D9A2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5E69-3BA5-42A5-830C-95FC6AE8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3D28-ADD1-4AFB-9183-8D714D9B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F337-51FE-4537-BEDC-4ED5E299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8907-0E9E-48F2-90BF-9C03DF99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B915-E15B-494F-B8E8-A858BB7B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AC5A-1EF4-4855-817B-B6B4B44E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E40F-DD1C-419F-96E3-E9BFAB4D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C0F3-A9F6-46F6-BBEF-BE1DF198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1138-24E6-4979-912E-83D29F1F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28EA-99E8-470E-968C-18F7909A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5C01-EC27-41B1-8853-A0EB228E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A879C-306C-45CD-BBA5-DDE39C0BD1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