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09580"/>
        <c:axId val="66389192"/>
      </c:barChart>
      <c:catAx>
        <c:axId val="45609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89192"/>
        <c:crosses val="autoZero"/>
        <c:auto val="1"/>
        <c:lblAlgn val="ctr"/>
        <c:lblOffset val="100"/>
        <c:noMultiLvlLbl val="0"/>
      </c:catAx>
      <c:valAx>
        <c:axId val="66389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09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634-BE2D-4BA6-8F47-861F26F9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234-F1E5-49EF-A23D-260B5E0F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3BB-1E1F-42E9-87D3-51E16845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B48-9089-461A-B478-8AFE65CC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2750-7C46-447D-A17C-44D925F0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41D-5717-454D-80C1-58E6A1EA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607-FE72-4C86-86F3-DB20EE6D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84A-AB09-423C-9536-948C5840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21E-6D26-48D8-BF18-E823F3E4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0CA-735B-4257-9A87-398A8D42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710-E3E9-4FD2-AA7A-0108649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51B-9BF0-4E25-A5FC-BE856562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F295-84A8-4E4D-8C1E-2D37C1B70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