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319320"/>
        <c:axId val="4968933"/>
      </c:barChart>
      <c:catAx>
        <c:axId val="913193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68933"/>
        <c:crosses val="autoZero"/>
        <c:auto val="1"/>
        <c:lblAlgn val="ctr"/>
        <c:lblOffset val="100"/>
        <c:noMultiLvlLbl val="0"/>
      </c:catAx>
      <c:valAx>
        <c:axId val="49689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3193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E462-1279-4FEF-91DF-14E5E3172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BADF-5214-4EE2-B6FD-51F29CDC2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E218-90C8-476A-B032-20655AD31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1AA0-6153-4B8F-A780-E4DE0E931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62DA-0B6C-45C7-9EDA-EB3178227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AD98-24A9-483A-BC16-38A589429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5E38-2BEF-4A4E-9F8E-BF4F97E41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400B-E620-4734-A3A1-F3B170EBD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8A99-549D-46D8-9D94-CECBC62BC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17F0-6D78-4E04-99AA-FE9F02F08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EF11-3DD8-45BA-A119-DC8FEFD07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947D-4624-4381-8C97-592665656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067FAE-93C3-421B-9A8F-FC8FB7C81A1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