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394091"/>
        <c:axId val="39098333"/>
      </c:barChart>
      <c:catAx>
        <c:axId val="313940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98333"/>
        <c:crosses val="autoZero"/>
        <c:auto val="1"/>
        <c:lblAlgn val="ctr"/>
        <c:lblOffset val="100"/>
        <c:noMultiLvlLbl val="0"/>
      </c:catAx>
      <c:valAx>
        <c:axId val="39098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940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B18-C593-4FA6-8619-888B7F40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7364-A273-4AA5-BAF6-D38C6167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5187-0496-416B-B1CD-38CCF37A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EB17-5EFF-4688-A3BE-D3C9642C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869-623C-421C-B3FC-D8632180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301-A1FD-4BC3-8E2E-B6F730CB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F9B-9437-4878-B85A-19D72EB7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2DE-9446-404C-B45E-035C6FD9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A73-B5F3-4337-928A-1337392F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6BB-B8CA-4688-A0D1-3522C949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36EE-FFCE-47C6-9B4D-43322CEF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0A0-88F7-49DE-A5A0-EFDE1B31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26F95-F2C2-4A78-A422-8A5B01E8A1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