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93033"/>
        <c:axId val="94555129"/>
      </c:barChart>
      <c:catAx>
        <c:axId val="66193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5129"/>
        <c:crosses val="autoZero"/>
        <c:auto val="1"/>
        <c:lblAlgn val="ctr"/>
        <c:lblOffset val="100"/>
        <c:noMultiLvlLbl val="0"/>
      </c:catAx>
      <c:valAx>
        <c:axId val="94555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93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2B3-3D3F-4177-8ABC-8D5A78C9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E37-D0FB-4C4E-BFE4-EDCAB839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301-4602-42B2-8570-AC8C2B00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FA5-0A4F-4B47-8F15-5E4AFEB5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6E1-5D60-4009-9FBC-FC3FA0D8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355-3836-45A4-80A8-0CCF59A9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EFE-915F-4B15-B948-EE2086AF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7F1-CFEE-4941-9706-EBE1B6B2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7E1-BFE1-4315-95AE-72EA1A7D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2C3-A576-4ED6-BE8E-3EF61BFB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5B9-3793-4A74-A05E-53BA648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376-49EE-4439-A61A-822E83A1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D5391-E185-47C1-A20F-04F7FD257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