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97843"/>
        <c:axId val="54338339"/>
      </c:barChart>
      <c:catAx>
        <c:axId val="98497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8339"/>
        <c:crosses val="autoZero"/>
        <c:auto val="1"/>
        <c:lblAlgn val="ctr"/>
        <c:lblOffset val="100"/>
        <c:noMultiLvlLbl val="0"/>
      </c:catAx>
      <c:valAx>
        <c:axId val="5433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7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8E5-DB1E-4248-A8AE-AA7F777E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E61-AD77-40A9-9608-E81160F2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522-B038-476D-800B-B9D2682E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93A-660F-433B-AA8A-CE3CE3FD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555-D1EF-4F07-B9B8-C9C60AB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82A-77D2-4074-836F-91D77F8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284-808B-42FF-94FC-DA2B15C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07E-ED7E-4C8B-B849-0BCCA9F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162-14EC-4696-9778-0F0F49B8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DF0-16BD-485B-B25B-D92DF98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8FD-7ACE-4BF5-B478-4FFB2A7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6D0-5017-4840-9FBA-56CFA66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0CA01-EB73-4F8F-8313-8658FFB6BD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