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83989"/>
        <c:axId val="2626315"/>
      </c:barChart>
      <c:catAx>
        <c:axId val="22183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6315"/>
        <c:crosses val="autoZero"/>
        <c:auto val="1"/>
        <c:lblAlgn val="ctr"/>
        <c:lblOffset val="100"/>
        <c:noMultiLvlLbl val="0"/>
      </c:catAx>
      <c:valAx>
        <c:axId val="262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83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7A2-CA41-495A-8DAD-52547D23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19F-0705-4DD1-A019-1972AFA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B96-94B5-4BA4-8212-DD074360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140-C659-4332-815B-A02E83B9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07E-261F-4FAC-9E91-2696DD6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7CE-6D29-43DE-A95E-83F4387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277-BBFF-4D0E-A1A1-E713125D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FCA-BFF7-48E6-A65D-9112B761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019-BC66-448F-B701-4ACF7660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C31-3DDC-4502-8C2D-B95650B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CE1-0336-49EF-8A88-CBC9408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6DF-7CD8-4E7F-8D28-071D516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DF3DB-4E30-420E-9D55-05B56EA51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