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35556"/>
        <c:axId val="76877924"/>
      </c:barChart>
      <c:catAx>
        <c:axId val="924355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77924"/>
        <c:crosses val="autoZero"/>
        <c:auto val="1"/>
        <c:lblAlgn val="ctr"/>
        <c:lblOffset val="100"/>
        <c:noMultiLvlLbl val="0"/>
      </c:catAx>
      <c:valAx>
        <c:axId val="768779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355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2758-0127-4197-9C82-114D3341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DA62-3815-4F06-A7A3-70392DC4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A384-9D1B-4763-9100-F17160F3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981A-CBB0-433A-91FA-249163B5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6602-0402-4331-B8CA-23A0BF25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850C-5C48-482A-8003-B9E5D680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2D9A-AD7F-495D-AFF4-696F491C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976D-A0A0-4540-8190-BC75931F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640-1E33-44D5-8001-758A0736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1347-0128-4C7D-8495-614FB6A9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CE41-BE04-4EF2-BF20-A4D0FD9E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8339-983C-4F2B-9C40-1328FBB5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5959A-1C5F-49B4-AD99-66CD9F551C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